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C434-4512-4179-B978-981BCFBA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48FE-7F91-4427-9D7B-5FC17C1AF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AEC8-2174-499B-9B7B-CB01FF0C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A1F2-48B4-4591-A740-687FBC32F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407-C683-4A05-B8BB-42171AB4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902-0670-43C2-87B3-747F909D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506-A9F6-4086-8E9A-117EFF5C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48A-781C-447A-970F-CDE62789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66B8-B601-476A-9187-B7DE9EFA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8A50-9D04-442F-8150-0B08F6F5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98DC-B83B-4E12-8727-5F81F8B7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B6D8-9DE0-4421-A065-F9EFFE26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8E69-E4D8-4380-86B5-D4029238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BBB5-A482-45F5-BD46-A35BA1C5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B440-B7F5-4522-B8C9-277F6EB0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EC1-851D-4569-9DAF-981D00B8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F49E-EC7F-495E-B7F6-9D2F519A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A2B1-74BB-4FA5-9E4A-3055F1A8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A905-4077-4DB2-B2F2-540C3E41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3EF5-52D7-477D-8353-59B28C43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ACF7-8AF7-45FA-85E3-75FE1B4A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619-D85A-4898-BB68-DC506E1A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613-B4A8-4E5B-BF35-3D414121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D0F-E296-4E79-B8D0-A27962E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FC8-0D41-43DF-A166-35CF5034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306-84FB-42B9-8180-397A211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CCC-3F3E-4930-9627-6FC94357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463-0060-4217-8753-7434A6E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5C78-2764-4244-A679-5C514F13866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81C1-F6EF-4CD8-BECD-FF84622624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38F1-085A-49E7-9B3A-4CB91F19296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E4E4-C7D0-469E-BC0C-141294A02D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Papyrus"/>
              </a:rPr>
              <a:t>SHIVA’S FIRE 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KELLY ALE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779480" cy="2633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UZANNE FISHER STAPLES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IOGRAPHY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ZANNE WAS BORN IN PHILADELPH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S ONE BROTHER AND ONE SISTER AND SHE GRADUATED FROM BOTH KEYSTONE COLLEGE AND CEDAR CREST COLLE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ED TO INDIA, BECAME A NEWS REPORT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ED TO THE U.S. AND WORKED FOR THE WASHINGTON POST, SPENT SOME YEARS IN PAKISTAN, STORIES OF INDIAN WOMEN INSPIRATION FOR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HABANU DAUGHTER OF THE WIN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RRIED TO WAYNE HARLEY, LIVES ON A FARM WITH THREE POODLES AND THREE CA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A NOVELIST, TRAVELS AROUND INDIA A LO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8001000" y="1143000"/>
            <a:ext cx="131112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UZANNE FISHER STAPLES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OTHER BOOK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BANU DAUGHTER OF THE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USE OF DJI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PERSIMMON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GEROUS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EN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898560" cy="152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7543800" y="3352680"/>
            <a:ext cx="1130400" cy="1752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7950240" y="2438280"/>
            <a:ext cx="91764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5638680" y="5410080"/>
            <a:ext cx="93204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tretch/>
        </p:blipFill>
        <p:spPr>
          <a:xfrm>
            <a:off x="5638680" y="4191120"/>
            <a:ext cx="94320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6"/>
          <a:stretch/>
        </p:blipFill>
        <p:spPr>
          <a:xfrm>
            <a:off x="4800600" y="4724280"/>
            <a:ext cx="85248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UZANNE FISHER STAPLES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WARDS FOR SHIVA’S FIR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YORK PUBLIC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KS FOR THE TEEN AG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' CHOICE GOLD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'S GUIDE AWA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SHER'S WEEKLY BEST BOOK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LDREN'S BOOK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a1b"/>
                </a:solidFill>
                <a:latin typeface="Arial"/>
              </a:rPr>
              <a:t>SHIVA’S FIRE OVERVIEW</a:t>
            </a:r>
            <a:endParaRPr b="0" lang="en-US" sz="36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IVA’S F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BOUT A GIRL NAMED PARVATI WHO LOVES TO 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PARVATI GROWS UP SHE BECOMES KNOWN FOR STRANGE EVENTS THAT SEEM TO SPRING FROM BENEATH HER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DAY THE GURU PAZHAYANUR MUTHU KUMARA PILLAI, THE GREAT MASTER OF INDIAN CLASSICAL DANCE, COMES TO SEE PARVATI AND INVITES HER TO STUDY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E MEETS A BOY WHO WITH HIS OWN POWERS TURNS HER LIFE UPSIDE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630440" cy="198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7754760" y="0"/>
            <a:ext cx="138924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ASSICAL INDIAN DANC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S PERFORMED INSIDE OF A TEMPLE WERE CALLE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AMA NARTAN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IS TYPE OF DANCE IS CLASSIFIED THIS TYPE OF DANCE FORM AS THE SOUL-LIBERATING D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S PERFORMED IN ROYAL COURTS WERE CALLE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NATAK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RBARI AATT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A FORM OF DANCE THAT APPEALED MORE TO THE COMMONERS AND IT EDUCATED THEM ABOUT THEIR RELIGION, CULTURE AND SOCIAL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7691400" y="4876920"/>
            <a:ext cx="14526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0" y="5181480"/>
            <a:ext cx="13017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7848720" y="1447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INDIAN CLOTHING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43a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 men used to wear a single piece of loose cloth called a dhoti. It is draped around the legs and one end was tucked along the wa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43a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wore saris, long pieces of cloth that can be wrapped in different ways over the bo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43a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is were usually five yards lo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43a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ri was worn as a skirt with the upper part thrown over the shou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981920" y="0"/>
            <a:ext cx="1162080" cy="211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2133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0" y="4813200"/>
            <a:ext cx="1149480" cy="204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152280" y="4495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ncy Silk Dho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371600" y="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day Cotton S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7086600" y="1522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lk Embroid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43a1b"/>
                </a:solidFill>
                <a:latin typeface="Arial"/>
              </a:rPr>
              <a:t>LINKS</a:t>
            </a:r>
            <a:endParaRPr b="0" lang="en-US" sz="48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CAL INDIAN DANCING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AN SARI FASHION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CIENT INDIAN FASHION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AN MEN'S 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KIPEDIA-INDIAN CLASSICAL 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2:07:01Z</dcterms:created>
  <dc:creator>USC/ISI</dc:creator>
  <dc:description/>
  <dc:language>en-US</dc:language>
  <cp:lastModifiedBy>USC/ISI</cp:lastModifiedBy>
  <dcterms:modified xsi:type="dcterms:W3CDTF">2009-11-17T19:15:40Z</dcterms:modified>
  <cp:revision>30</cp:revision>
  <dc:subject/>
  <dc:title>Shiva’s Fire</dc:title>
</cp:coreProperties>
</file>